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E230-FBFA-4F6B-8387-41F2F7F2E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2BE-DF83-4012-948B-3A9E8F3EE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E41-E8A0-41F8-93FD-0D1231E89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99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9572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99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9572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CE74-7328-4EEE-B99D-FE8CDEF3D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725D-04D9-4F68-B0A7-C2D0386D56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EB83-7FD1-45E6-BC68-7DB62E38E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12A8-5FCF-4A78-A5A7-C9DB251ACF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5D07-5C9D-44BF-BD42-964824419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C0DE-3EE4-4709-B33B-BC2630C5C6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99840" y="-360"/>
            <a:ext cx="83804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C654-56B0-4E07-BAE6-7991C8928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8D92-B7A7-4A56-AD80-EA73C53E6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B251-B1C3-4409-A6AB-2D4290165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8D0A-A5D8-41B2-8946-F8DE2FD3C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C992-B38B-422A-9B8F-4D4CD5EF7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630C-B9C2-4485-A1D0-71D1D0715A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0FA2-BB92-4961-A9E2-7A1F211FB1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99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9572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99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9572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57D4-6C82-4409-96E0-3742D247B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1E2B-DC93-411F-96E0-FFC046847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1232-4AC8-48CC-A783-751DA51A9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6D1A-3390-41CC-BC1A-4E40B9480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99840" y="-360"/>
            <a:ext cx="83804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C528-064A-4A23-A994-68E6DD645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472D-ACE3-48B3-A25B-42953B1CF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D8D2-AA75-4275-B609-807489472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4D4E-705B-463D-8E88-AE6A89D29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0216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596F-9BA4-412F-A439-440B1FD94453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76720" y="1891800"/>
            <a:ext cx="6780240" cy="13194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157960" y="69339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CF10-E6E3-4608-B487-3DDCB5BF1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507960" y="1774800"/>
            <a:ext cx="91346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Bell Ringer</a:t>
            </a: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is best considered as a Is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10252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4F2-DD2F-47A9-934D-671AB3EC493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TOC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0: Parts of a map c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10252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973C-E7EA-419C-BF4B-48955874BF7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6ffd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9360" y="168876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85480"/>
                <a:tab algn="l" pos="10566360"/>
                <a:tab algn="l" pos="109728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p-Representation of the Earth’s features drawn on a flat surf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85480"/>
                <a:tab algn="l" pos="10566360"/>
                <a:tab algn="l" pos="10972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 use symbols and colors to represent features of an area or real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50760"/>
                <a:tab algn="l" pos="1066680"/>
                <a:tab algn="l" pos="208296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98080"/>
                <a:tab algn="l" pos="10566360"/>
                <a:tab algn="l" pos="109728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 Bold"/>
              </a:rPr>
              <a:t>Features on a Map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lnSpc>
                <a:spcPct val="90000"/>
              </a:lnSpc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 Bold"/>
                <a:ea typeface="Arial Bold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ident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purpose of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explains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of symbols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Scale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distance on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compar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Date of Pub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 when the map wa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0"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Arial Bold"/>
                <a:ea typeface="Arial Bold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neatly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spell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ot should be used to locate cities-name close to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ff2712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o not block  information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lnSpc>
                <a:spcPct val="100000"/>
              </a:lnSpc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fe"/>
                </a:solidFill>
                <a:latin typeface="Arial Bold"/>
                <a:ea typeface="Arial Bold"/>
              </a:rPr>
              <a:t>Coloring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Shade consistently --no light or dark patches of on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White or black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Grey-used for areas no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Blue-used for water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50760"/>
                <a:tab algn="l" pos="1066680"/>
                <a:tab algn="l" pos="208296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98080"/>
                <a:tab algn="l" pos="10566360"/>
                <a:tab algn="l" pos="10972800"/>
              </a:tabLst>
            </a:pPr>
            <a:r>
              <a:rPr b="0" lang="en-US" sz="4000" spc="-1" strike="noStrike">
                <a:solidFill>
                  <a:srgbClr val="0044fe"/>
                </a:solidFill>
                <a:latin typeface="Arial Bold"/>
              </a:rPr>
              <a:t>Points on a Compass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58988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ss is a way of find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cardinal points= N, E, S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ordin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NE, SE, SW, NW, NNE, ENE, ESE, SSE, SSW, WSW, WNW, N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s all have corresponding degrees of a circle (0° → 36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904080" y="4100400"/>
            <a:ext cx="2622600" cy="28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I.W. Marlatt</dc:creator>
  <dc:description/>
  <cp:keywords/>
  <dc:language>en-US</dc:language>
  <cp:lastModifiedBy>TylerDaughtry</cp:lastModifiedBy>
  <dcterms:modified xsi:type="dcterms:W3CDTF">2013-09-06T17:26:38Z</dcterms:modified>
  <cp:revision>3</cp:revision>
  <dc:subject/>
  <dc:title>Slide 1</dc:title>
</cp:coreProperties>
</file>